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081-1EAA-4F57-A7EA-630C8877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EB1-C9E4-49EB-84E6-422946B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3A3-5B3F-482E-BAA7-D0F5A1B0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4F0-7EA3-47FC-A3E1-BDEFDBC7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180D-BA5C-40F0-98A4-326DCD1D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1F2D-A6C7-4757-BAF9-62892D9E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01EF-90F0-402F-933E-8A2E0B17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6B2-A851-4D99-ACE4-6CD8BF0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1216-4BBF-42F0-80F7-D7152D3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965-51A6-4602-A78E-ADCA6C7A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FE1-39AB-4363-907C-A441632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B02-1F65-4ED1-967B-71EB9D8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9D21-F173-4C4C-B905-E12E0544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375C-98CF-484F-861C-057C177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03D-41A0-4F20-8BE9-BBF2A72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8EF-B325-49BA-B36B-77676F2C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438-5457-437E-A504-78581B09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82E8-9684-4035-9AF9-20B6A39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B169-3899-4864-8139-20185AB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EFF5-3206-426E-AC8A-68FF16A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3DC7-8B6F-4613-85FA-3EEB3F7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D0D0-8224-4237-8A96-88635CB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3F0-971E-41F4-9D44-80C0CB4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F193-89ED-4D7F-9052-54FA97A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AC6A-3E3A-4334-8D60-5CCB2EB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3B93-D7B6-46DB-9D4D-3C30ADD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4AB5-6AA8-4CF5-B81C-8264224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E934-7B89-435F-AC6E-9508356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4C80-05DA-459B-815F-92E4E959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047A-9018-44C1-BA9C-15F5A4D3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EBFA-745A-4481-94F5-4D06F2C9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7000-9290-4F12-AAFE-2BC0ADAA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DA3E-2A6A-4CA3-82BB-BFDA8AA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3EF-FB86-4C39-977F-ED14DF1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68C2-6957-47FB-ADAE-519DE55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E604-6F6E-420B-AAD6-C6468D9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9DB3-A0C4-4251-A44C-571381E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BAF0-D5E7-45DB-A549-3D65883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0E37-479F-42C7-9B9E-943F361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B6D5-4524-43E9-A424-21E4831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32B0-C565-46A3-938A-5C1750F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0888-4870-41E7-84FF-9E8DA6D3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9BAB-A095-483D-9D28-EF942B1D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AC65-D089-470C-8729-8FA30B67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775-C145-4052-BCCA-70801391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D711-DFB8-4AED-BEED-6602BAD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DDD05-04FC-4294-B08A-0182169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C0B9-4B32-4E9B-A6F8-151025C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9DCD-9F7D-4C77-A9CA-A37F8597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5064-D791-47C0-AF0D-16D5F5F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5990-8D3A-4807-A0D2-5503A219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82FF-3860-4A48-88E1-18D8744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FF2F-D348-434D-B3DC-A583A89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C9B77-AAED-4A80-9EC5-7644455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C3C6-0741-48E7-B759-1D749AB5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160-33B7-4462-9EC7-6779A99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8C734-0799-45F8-99B3-25731B24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934-24F6-442A-A846-62E5600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FF7-B294-4394-BE05-DB41316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862-AB88-465A-BBEC-5CC66E8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1997-6707-4547-B628-992AACF360FE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144-8C43-44A1-AEE9-D557A6AE105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C0E-F2CF-4512-BFD2-8BD06EA4769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595-B74D-441A-9642-F0283498BB2B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1CE-75F8-4F57-AEC7-5C9D0E121B6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25080"/>
            <a:ext cx="7696440" cy="11430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ТЕМА: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1752480"/>
            <a:ext cx="7696440" cy="452592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Bahnschrift SemiBold SemiConden"/>
              </a:rPr>
              <a:t>Дружба и конфликты</a:t>
            </a:r>
            <a:endParaRPr b="0" lang="en-US" sz="48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93800" y="444240"/>
            <a:ext cx="3956400" cy="6858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130400"/>
            <a:ext cx="8153640" cy="46101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1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накомиться с понятием «конфликт», «ссора»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2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Узнать  о способах разрешения конфликтных ситуаций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3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Научиться вести себя правильно при возникновении конфликтной ситуации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04920" y="504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уроке физкультуры во время игры Маша нечаянно толкнула Катю. Катя упала, заплакала, обиделась на Машу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162160" y="3332160"/>
            <a:ext cx="4286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80880" y="648360"/>
            <a:ext cx="8610840" cy="33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перемены Руслан и Миша одновременно захотели поиграть с одной и той же игрушкой. Стали вырывать её друг у друга из ру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29145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04920" y="661680"/>
            <a:ext cx="8381880" cy="283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стя нарисовал на листке портрет Юры и передал ему. Юра обиделся, порвал портрет на мелкие кусочки и бросил их на парту К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2"/>
          <a:srcRect l="3851" t="0" r="5705" b="0"/>
          <a:stretch/>
        </p:blipFill>
        <p:spPr>
          <a:xfrm>
            <a:off x="1600200" y="3753000"/>
            <a:ext cx="3581280" cy="2428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33520" y="1981080"/>
            <a:ext cx="80010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304920" y="-360"/>
            <a:ext cx="40384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4495320" y="-360"/>
            <a:ext cx="4343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33520" y="6172200"/>
            <a:ext cx="4038480" cy="7034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зывч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572000" y="6172200"/>
            <a:ext cx="396252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ботл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3520" y="5486400"/>
            <a:ext cx="297180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505320" y="5486400"/>
            <a:ext cx="5029200" cy="703440"/>
          </a:xfrm>
          <a:prstGeom prst="rect">
            <a:avLst/>
          </a:prstGeom>
          <a:solidFill>
            <a:srgbClr val="738f97"/>
          </a:solidFill>
          <a:ln w="9360">
            <a:solidFill>
              <a:srgbClr val="738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800600" y="4800600"/>
            <a:ext cx="37339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ж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200400" y="4114800"/>
            <a:ext cx="5334120" cy="6426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брожела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33520" y="4800600"/>
            <a:ext cx="4267080" cy="70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рпе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33520" y="3429000"/>
            <a:ext cx="4647960" cy="7034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скоры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33520" y="4114800"/>
            <a:ext cx="2819160" cy="642600"/>
          </a:xfrm>
          <a:prstGeom prst="rect">
            <a:avLst/>
          </a:prstGeom>
          <a:solidFill>
            <a:srgbClr val="66ffcc"/>
          </a:solidFill>
          <a:ln w="9360">
            <a:solidFill>
              <a:srgbClr val="bdfb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105520" y="3505320"/>
            <a:ext cx="3429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а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33520" y="2743200"/>
            <a:ext cx="3657600" cy="7034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ва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33520" y="1981080"/>
            <a:ext cx="403848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4419720" y="0"/>
            <a:ext cx="441936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3"/>
          <p:cNvSpPr/>
          <p:nvPr/>
        </p:nvSpPr>
        <p:spPr>
          <a:xfrm flipH="1">
            <a:off x="304920" y="0"/>
            <a:ext cx="411480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4114800" y="2743200"/>
            <a:ext cx="4419720" cy="70344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мение про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4114800" y="1981080"/>
            <a:ext cx="4419720" cy="70344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увство юм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7" descr="13602097"/>
          <p:cNvPicPr/>
          <p:nvPr/>
        </p:nvPicPr>
        <p:blipFill>
          <a:blip r:embed="rId1"/>
          <a:stretch/>
        </p:blipFill>
        <p:spPr>
          <a:xfrm>
            <a:off x="2438280" y="5181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13325475"/>
          <p:cNvPicPr/>
          <p:nvPr/>
        </p:nvPicPr>
        <p:blipFill>
          <a:blip r:embed="rId2"/>
          <a:stretch/>
        </p:blipFill>
        <p:spPr>
          <a:xfrm>
            <a:off x="457200" y="1523880"/>
            <a:ext cx="1660680" cy="1722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36700378963723"/>
          <p:cNvPicPr/>
          <p:nvPr/>
        </p:nvPicPr>
        <p:blipFill>
          <a:blip r:embed="rId3"/>
          <a:stretch/>
        </p:blipFill>
        <p:spPr>
          <a:xfrm>
            <a:off x="-2514600" y="-304920"/>
            <a:ext cx="14287680" cy="857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304920" y="1828800"/>
            <a:ext cx="19047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666880" y="2666880"/>
            <a:ext cx="17528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1447920"/>
            <a:ext cx="19051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086600" y="2971800"/>
            <a:ext cx="1828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52280" y="3962520"/>
            <a:ext cx="190512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362320" y="5181480"/>
            <a:ext cx="220968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724280" y="3352680"/>
            <a:ext cx="198144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858000" y="5181480"/>
            <a:ext cx="205740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9" descr="13602097"/>
          <p:cNvPicPr/>
          <p:nvPr/>
        </p:nvPicPr>
        <p:blipFill>
          <a:blip r:embed="rId4"/>
          <a:stretch/>
        </p:blipFill>
        <p:spPr>
          <a:xfrm>
            <a:off x="2514600" y="5029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13325475"/>
          <p:cNvPicPr/>
          <p:nvPr/>
        </p:nvPicPr>
        <p:blipFill>
          <a:blip r:embed="rId5"/>
          <a:stretch/>
        </p:blipFill>
        <p:spPr>
          <a:xfrm>
            <a:off x="457200" y="1752480"/>
            <a:ext cx="1616040" cy="1676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0_12a649_758e692a_orig"/>
          <p:cNvPicPr/>
          <p:nvPr/>
        </p:nvPicPr>
        <p:blipFill>
          <a:blip r:embed="rId6"/>
          <a:stretch/>
        </p:blipFill>
        <p:spPr>
          <a:xfrm>
            <a:off x="2743200" y="2590920"/>
            <a:ext cx="1679400" cy="1639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_6ce83_74037ec_orig"/>
          <p:cNvPicPr/>
          <p:nvPr/>
        </p:nvPicPr>
        <p:blipFill>
          <a:blip r:embed="rId7"/>
          <a:stretch/>
        </p:blipFill>
        <p:spPr>
          <a:xfrm>
            <a:off x="4800600" y="327672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9" descr="11038868"/>
          <p:cNvPicPr/>
          <p:nvPr/>
        </p:nvPicPr>
        <p:blipFill>
          <a:blip r:embed="rId8"/>
          <a:stretch/>
        </p:blipFill>
        <p:spPr>
          <a:xfrm>
            <a:off x="4572000" y="144792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0_12bc14_a960d191_orig"/>
          <p:cNvPicPr/>
          <p:nvPr/>
        </p:nvPicPr>
        <p:blipFill>
          <a:blip r:embed="rId9"/>
          <a:stretch/>
        </p:blipFill>
        <p:spPr>
          <a:xfrm>
            <a:off x="380880" y="3962520"/>
            <a:ext cx="138600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Red-Roses-and-Green-Leaves-PNG-Clipart"/>
          <p:cNvPicPr/>
          <p:nvPr/>
        </p:nvPicPr>
        <p:blipFill>
          <a:blip r:embed="rId10"/>
          <a:stretch/>
        </p:blipFill>
        <p:spPr>
          <a:xfrm>
            <a:off x="7086600" y="3048120"/>
            <a:ext cx="1752480" cy="1751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3173982"/>
          <p:cNvPicPr/>
          <p:nvPr/>
        </p:nvPicPr>
        <p:blipFill>
          <a:blip r:embed="rId11"/>
          <a:stretch/>
        </p:blipFill>
        <p:spPr>
          <a:xfrm>
            <a:off x="6934320" y="5275440"/>
            <a:ext cx="1828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blipFill rotWithShape="0">
            <a:blip r:embed="rId2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 ПОМИРИТЬСЯ С ДРУГОМ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6320" y="1294920"/>
            <a:ext cx="8686800" cy="53341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говорите. Попытайся понять почему произошла ссора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Встань на сторону друга, увидь ситуацию с его стороны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кажи доброе слово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делай сюрприз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ови друга на прогулку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blipFill rotWithShape="0">
            <a:blip r:embed="rId1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СПАСИБО ЗА ВНИМАНИЕ!!!!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62" name="Рисунок 2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85136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ся Стоянова</dc:creator>
  <dc:description/>
  <dc:language>en-US</dc:language>
  <cp:lastModifiedBy>Alesya Stoyanova</cp:lastModifiedBy>
  <dcterms:modified xsi:type="dcterms:W3CDTF">2020-05-12T11:13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